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48A-877C-48F6-9491-37445F0C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D8D-70A6-419B-A089-21829EDC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198-629E-4CF9-8C4B-68E386C0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FCB-44F6-42F0-A2C5-109B7F6B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3BB-65A0-447F-98DF-C27815A8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C18-A327-471E-86C8-93FB353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842-2D7C-4DD1-AC2D-A3892C0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A91-6640-43B0-A3F1-8EC7CAA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6CB-B670-497E-B10D-276F7AE3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B0B-9FC7-4FD6-8769-A023833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83F-9E73-441B-8BF0-3F64A25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904-0B30-433D-B3CB-E1DC845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543F-6C93-48CA-9B01-00AA8238F9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71560" y="20718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η (1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η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η (2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ωη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η (1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629240" y="2228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29240" y="2843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29240" y="34574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43280" y="4071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th, soil,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643280" y="4700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42920" y="11318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teen feminine nouns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643280" y="531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643280" y="5924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l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71560" y="15336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μαρτια (1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ια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κκλησια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ἡμερα (38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δια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ικια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ρα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29240" y="169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29240" y="230508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gn, kingship,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29240" y="29192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(later ‘churc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3280" y="353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643280" y="41623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42920" y="11318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643280" y="53863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,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643280" y="60246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071720" y="1643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with the mix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85960" y="2500200"/>
            <a:ext cx="30002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λασσα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6528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endour, gl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3286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,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771560" y="251784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ον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αιμονιον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ργον (1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ερον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29240" y="2674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, 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629240" y="328932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629240" y="39038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,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643280" y="4518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news, go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5146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142920" y="1616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 neuter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71560" y="21430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οι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ωπ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ημειον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κνον (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29240" y="23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29240" y="291456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29240" y="35290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14400" y="1357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important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14680" y="1920960"/>
            <a:ext cx="38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ὐτος αὐτη αὐτο (55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572080" y="1928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, she, it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928800" y="2643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743120" y="322884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ησους (9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υλος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τρος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785960" y="5554800"/>
            <a:ext cx="3857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ευ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(2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928800" y="52149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5572080" y="3409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600880" y="4029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5614920" y="4610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5643720" y="57150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lieve (in), trust, have fait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51:14Z</dcterms:created>
  <dc:creator>Sarah</dc:creator>
  <dc:description/>
  <dc:language>en-US</dc:language>
  <cp:lastModifiedBy>Sarah</cp:lastModifiedBy>
  <dcterms:modified xsi:type="dcterms:W3CDTF">2009-06-29T09:51:31Z</dcterms:modified>
  <cp:revision>16</cp:revision>
  <dc:subject/>
  <dc:title>Slide 1</dc:title>
</cp:coreProperties>
</file>